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79EA-7D65-4D1E-AA96-610CF458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9A3-1C14-4074-A039-A1D8632A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DEE-F880-4429-B503-5A1B9194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FAF-B7D7-42E1-97D4-03A70333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2FE-B22A-43C5-94E1-A9B80A83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1D7D-D78E-403D-AAC0-ED172E00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9A6-58FE-4863-876A-77662C6D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6C7-CC01-4771-BAB1-9C361D3C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E9B-0B85-4C88-B4A4-77706F95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E3F2-82C5-419D-A99C-5A30F805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F5E1-88D4-4D2A-A521-8BA75D19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5269-DF84-46B6-B39A-AF5B939C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2D49-3F73-48EB-9E00-0BB515B484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DY HERNANDE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LI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GREECE CITY-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7" descr="http://t3.gstatic.com/images?q=tbn:ANd9GcQalGNXvKWpGoFR-RYGajaV48NFtnSxQk-yrBDh28G2bvHJPryh"/>
          <p:cNvPicPr/>
          <p:nvPr/>
        </p:nvPicPr>
        <p:blipFill>
          <a:blip r:embed="rId1"/>
          <a:stretch/>
        </p:blipFill>
        <p:spPr>
          <a:xfrm>
            <a:off x="2286000" y="16002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STUDY OF WISDOM AND THE RIGHT WAY TO LIVE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" descr="http://t2.gstatic.com/images?q=tbn:ANd9GcS5zl6vRmfhkmtf-m-_o9ZNJw7AQk-LycUkSHq7gIYO8hvQtNIuQQ"/>
          <p:cNvPicPr/>
          <p:nvPr/>
        </p:nvPicPr>
        <p:blipFill>
          <a:blip r:embed="rId1"/>
          <a:stretch/>
        </p:blipFill>
        <p:spPr>
          <a:xfrm>
            <a:off x="2057400" y="2743200"/>
            <a:ext cx="40384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 AREA OF LAND NEARLY SURROUNDED BY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http://t0.gstatic.com/images?q=tbn:ANd9GcTKp9af7CbcDVTOHdcquSb5NTtB0I-jLsnUj9zJGxKsUBEU3HfNpA"/>
          <p:cNvPicPr/>
          <p:nvPr/>
        </p:nvPicPr>
        <p:blipFill>
          <a:blip r:embed="rId1"/>
          <a:stretch/>
        </p:blipFill>
        <p:spPr>
          <a:xfrm>
            <a:off x="1523880" y="2514600"/>
            <a:ext cx="5307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LOPONNESIAN WA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0" y="16765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WAR BETWEEN ATHENS AND SPA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5" descr="http://t0.gstatic.com/images?q=tbn:ANd9GcR4SG4-xBxMaUDbHYNM4OQCwahS4mxUTbtnyTxEHAsN9bnFwOpznw"/>
          <p:cNvPicPr/>
          <p:nvPr/>
        </p:nvPicPr>
        <p:blipFill>
          <a:blip r:embed="rId1"/>
          <a:stretch/>
        </p:blipFill>
        <p:spPr>
          <a:xfrm>
            <a:off x="2286000" y="3200400"/>
            <a:ext cx="388620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KIND OF GOVERNMENT THAT IS RUN BY A SMALL GROUP OF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http://t0.gstatic.com/images?q=tbn:ANd9GcR3fTo6cG9nRK1hBQm6lyBsGV07gcTI6LY2djstUbYJ-xIcJir3"/>
          <p:cNvPicPr/>
          <p:nvPr/>
        </p:nvPicPr>
        <p:blipFill>
          <a:blip r:embed="rId1"/>
          <a:stretch/>
        </p:blipFill>
        <p:spPr>
          <a:xfrm>
            <a:off x="1828800" y="2209680"/>
            <a:ext cx="49528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SHELTERED PLACE ALONG A COAST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5" descr="http://t3.gstatic.com/images?q=tbn:ANd9GcQoQNBiZLxyhNfi6rh8UJ5HLPe84La627gVAlb9kMm5uxbQKwbyjQ"/>
          <p:cNvPicPr/>
          <p:nvPr/>
        </p:nvPicPr>
        <p:blipFill>
          <a:blip r:embed="rId1"/>
          <a:stretch/>
        </p:blipFill>
        <p:spPr>
          <a:xfrm>
            <a:off x="1676520" y="1676520"/>
            <a:ext cx="541008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7" descr="http://t3.gstatic.com/images?q=tbn:ANd9GcRp5iTfJ-W_ZaD-6U4xy8PaF-KcDMY3k4OhYlcY9ws7Ma3LM6Tk-g"/>
          <p:cNvPicPr/>
          <p:nvPr/>
        </p:nvPicPr>
        <p:blipFill>
          <a:blip r:embed="rId1"/>
          <a:stretch/>
        </p:blipFill>
        <p:spPr>
          <a:xfrm>
            <a:off x="1905120" y="2438280"/>
            <a:ext cx="51814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GORA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PLACE WHERE GREEKS MEET AND CONDUCT BUSINES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6" descr="http://t0.gstatic.com/images?q=tbn:ANd9GcQkKIPX_D3IZFd0TMJePcqZZPMyRy78aoBvtU2LPopRwcN32LXQ5w"/>
          <p:cNvPicPr/>
          <p:nvPr/>
        </p:nvPicPr>
        <p:blipFill>
          <a:blip r:embed="rId1"/>
          <a:stretch/>
        </p:blipFill>
        <p:spPr>
          <a:xfrm>
            <a:off x="2133720" y="2209680"/>
            <a:ext cx="48765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SEMBL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LAWNMAKING PLACE WHERE PEOPLE VOTED ON ISSUES THAT HELPED THEIR 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http://t0.gstatic.com/images?q=tbn:ANd9GcSBkKdar38gxKRk3bZAXowOczju_UJjUyQ7v2J0OO-3Ab0DiauDbg"/>
          <p:cNvPicPr/>
          <p:nvPr/>
        </p:nvPicPr>
        <p:blipFill>
          <a:blip r:embed="rId1"/>
          <a:stretch/>
        </p:blipFill>
        <p:spPr>
          <a:xfrm>
            <a:off x="1752480" y="2057400"/>
            <a:ext cx="5105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PERSON WHO HAS CERTAIN RIGHTS AND RESPNOSIBILITIES TO HIS OR HER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http://t1.gstatic.com/images?q=tbn:ANd9GcSIHnNYn5CXGkct-SGjJ895cYeZ_KsuKWXUIS4wQOf_FhO_0DZfog"/>
          <p:cNvPicPr/>
          <p:nvPr/>
        </p:nvPicPr>
        <p:blipFill>
          <a:blip r:embed="rId1"/>
          <a:stretch/>
        </p:blipFill>
        <p:spPr>
          <a:xfrm>
            <a:off x="1905120" y="2743200"/>
            <a:ext cx="51102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GROUP OF PEOPLE WHO LIVED APART FROM GREECE BUT KEPT ECONOMNC  TIES WITH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http://t3.gstatic.com/images?q=tbn:ANd9GcRXPnYIB8CENapDP2PDTJAmwvlRf5p9X__ey8gHfi8RU4lg4OR4Ew"/>
          <p:cNvPicPr/>
          <p:nvPr/>
        </p:nvPicPr>
        <p:blipFill>
          <a:blip r:embed="rId1"/>
          <a:stretch/>
        </p:blipFill>
        <p:spPr>
          <a:xfrm>
            <a:off x="1905120" y="2057400"/>
            <a:ext cx="51814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FORM OF GOVERNMENT WHERE PEOPLE VOTE TO MAKE DECIS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http://t2.gstatic.com/images?q=tbn:ANd9GcT23rTk6mREOJSLmOyJU5zm_juDv-XjiU4ppzYz7aZzkSfPcdFNtg"/>
          <p:cNvPicPr/>
          <p:nvPr/>
        </p:nvPicPr>
        <p:blipFill>
          <a:blip r:embed="rId1"/>
          <a:stretch/>
        </p:blipFill>
        <p:spPr>
          <a:xfrm>
            <a:off x="2971800" y="2133720"/>
            <a:ext cx="28954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HEAR EVIDENCE AND MAKE DECISIONS IN COURT OF LA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" descr="http://t0.gstatic.com/images?q=tbn:ANd9GcRqDrCGG13mDJ0NJ9PNWs26xHnUxEwhfplnXC9NW_PFDjL4YJLViQ"/>
          <p:cNvPicPr/>
          <p:nvPr/>
        </p:nvPicPr>
        <p:blipFill>
          <a:blip r:embed="rId1"/>
          <a:stretch/>
        </p:blipFill>
        <p:spPr>
          <a:xfrm>
            <a:off x="1828800" y="2057400"/>
            <a:ext cx="48769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OVERNMENT HEADED BY ONE RU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http://t2.gstatic.com/images?q=tbn:ANd9GcTED0nbbbNf_uFXTNn5-Y5cfQ-QTqurrF6gqzMMPFhVZC72tR8ATA"/>
          <p:cNvPicPr/>
          <p:nvPr/>
        </p:nvPicPr>
        <p:blipFill>
          <a:blip r:embed="rId1"/>
          <a:stretch/>
        </p:blipFill>
        <p:spPr>
          <a:xfrm>
            <a:off x="2514600" y="2057400"/>
            <a:ext cx="33526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41:13Z</dcterms:modified>
  <cp:revision>97</cp:revision>
  <dc:subject/>
  <dc:title>Ancient Greece</dc:title>
</cp:coreProperties>
</file>